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C18-4EFF-4C35-A73B-320B7486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BD4-30B5-4AA3-8DFA-34899D8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384-40CD-4BDB-940C-B7F962E6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A89-B81A-4785-A7FC-7D587C77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69807-BCD9-426A-9ED4-6BD058C4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E6781-1F11-4011-A70D-1E80605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E3A56-FD25-4FE5-883A-787666EB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C372F-4B17-4E0C-859C-9FC4368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C622-5678-4B47-A94B-0698E370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16F2-7613-449B-8317-0151B6E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BD9B-9A5E-452B-9B20-E0F4693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232-94D4-4467-8CFB-436C871D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EFB0-1210-4F9E-B12C-B448227F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0240B-02AA-415F-92D1-14CB14A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2638E-7493-49FB-A93A-583BC1AA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FE96-300A-4746-8692-8930D495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2306-7AA3-429B-8461-D68F64C4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24C-D5C4-4CEF-8FE8-7695166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E67-B639-4612-9830-C2F9DA45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4A9-8569-4C13-BE89-3C0D0BEA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731-6AB2-471F-BA31-1FDCCA43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DC2-7A9B-4D24-937E-B3FDAE2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1C1-AB3E-4FD9-A298-19E48A5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5FC-E3E2-4BEA-8867-3CD2E4E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D926-26A5-4CEA-A1E8-CBDFBA26F5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B79-057F-4285-B4CA-B912047413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FQ:  What are the qualities of River Valley Civilization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L84(RR4)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21333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w:  Regents Practice Ques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result of the Neolithic Revolution w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1. an increase in the number of nomadic trib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2. a reliance on hunting and gathering for food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3. the establishment of villages and the rise of governm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4. a decrease in trade between cultural group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us Valley –Geography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ruled by Monsoons (seasonal weather storms that create mass amounts of rain and flooding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soons also create fertile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530px-India_southwest_summer_monsoon_onset_map_en"/>
          <p:cNvPicPr/>
          <p:nvPr/>
        </p:nvPicPr>
        <p:blipFill>
          <a:blip r:embed="rId1"/>
          <a:stretch/>
        </p:blipFill>
        <p:spPr>
          <a:xfrm>
            <a:off x="4343400" y="3657600"/>
            <a:ext cx="4494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Writing System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known to histor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co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skr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question_mark_3d"/>
          <p:cNvPicPr/>
          <p:nvPr/>
        </p:nvPicPr>
        <p:blipFill>
          <a:blip r:embed="rId1"/>
          <a:stretch/>
        </p:blipFill>
        <p:spPr>
          <a:xfrm>
            <a:off x="1143000" y="2819520"/>
            <a:ext cx="1714680" cy="3319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_458cd220d391e"/>
          <p:cNvPicPr/>
          <p:nvPr/>
        </p:nvPicPr>
        <p:blipFill>
          <a:blip r:embed="rId2"/>
          <a:stretch/>
        </p:blipFill>
        <p:spPr>
          <a:xfrm>
            <a:off x="4800600" y="2133720"/>
            <a:ext cx="30132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 and Social Structur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ndu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carn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e System (linked to relig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strict –no mo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image-hinduism"/>
          <p:cNvPicPr/>
          <p:nvPr/>
        </p:nvPicPr>
        <p:blipFill>
          <a:blip r:embed="rId1"/>
          <a:stretch/>
        </p:blipFill>
        <p:spPr>
          <a:xfrm>
            <a:off x="304920" y="3276720"/>
            <a:ext cx="3209760" cy="3581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aste%20System%20Diagram%2006"/>
          <p:cNvPicPr/>
          <p:nvPr/>
        </p:nvPicPr>
        <p:blipFill>
          <a:blip r:embed="rId2"/>
          <a:stretch/>
        </p:blipFill>
        <p:spPr>
          <a:xfrm>
            <a:off x="4343400" y="3057480"/>
            <a:ext cx="4238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ellow River Valley –Geography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in Chi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fertile soil called lo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Yellow_River"/>
          <p:cNvPicPr/>
          <p:nvPr/>
        </p:nvPicPr>
        <p:blipFill>
          <a:blip r:embed="rId1"/>
          <a:stretch/>
        </p:blipFill>
        <p:spPr>
          <a:xfrm>
            <a:off x="1905120" y="2798640"/>
            <a:ext cx="45860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Writing System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ng Dynas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 as lea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e of Heaven”- ruler gets power from the heave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igrap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characters for words and s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qindynasty2"/>
          <p:cNvPicPr/>
          <p:nvPr/>
        </p:nvPicPr>
        <p:blipFill>
          <a:blip r:embed="rId1"/>
          <a:stretch/>
        </p:blipFill>
        <p:spPr>
          <a:xfrm>
            <a:off x="304920" y="3973680"/>
            <a:ext cx="3352680" cy="288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hinese_calligraphy"/>
          <p:cNvPicPr/>
          <p:nvPr/>
        </p:nvPicPr>
        <p:blipFill>
          <a:blip r:embed="rId2"/>
          <a:stretch/>
        </p:blipFill>
        <p:spPr>
          <a:xfrm>
            <a:off x="4876920" y="3200400"/>
            <a:ext cx="2857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 and Social Struc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ng and Yang –balancing opposing sides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 at the 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s and Warr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sants and far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ying_yang"/>
          <p:cNvPicPr/>
          <p:nvPr/>
        </p:nvPicPr>
        <p:blipFill>
          <a:blip r:embed="rId1"/>
          <a:stretch/>
        </p:blipFill>
        <p:spPr>
          <a:xfrm>
            <a:off x="685800" y="3505320"/>
            <a:ext cx="273852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y did ancient people settle near river valley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sh water (basic nee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soil for farm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BIGnile-river-valley"/>
          <p:cNvPicPr/>
          <p:nvPr/>
        </p:nvPicPr>
        <p:blipFill>
          <a:blip r:embed="rId1"/>
          <a:stretch/>
        </p:blipFill>
        <p:spPr>
          <a:xfrm>
            <a:off x="1676520" y="3114720"/>
            <a:ext cx="4762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the negatives to settling near a river valley?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ing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ccurs on a pattern based on weather.  Some places 3-5 times a ye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05flood"/>
          <p:cNvPicPr/>
          <p:nvPr/>
        </p:nvPicPr>
        <p:blipFill>
          <a:blip r:embed="rId1"/>
          <a:stretch/>
        </p:blipFill>
        <p:spPr>
          <a:xfrm>
            <a:off x="1600200" y="3733920"/>
            <a:ext cx="5715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esopotamia/ Sumeria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eography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e Crescent –Between the Tigris and Euphrates riv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vers flooding created silt which made very good so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fertile1"/>
          <p:cNvPicPr/>
          <p:nvPr/>
        </p:nvPicPr>
        <p:blipFill>
          <a:blip r:embed="rId1"/>
          <a:stretch/>
        </p:blipFill>
        <p:spPr>
          <a:xfrm>
            <a:off x="3886200" y="3322800"/>
            <a:ext cx="47242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Social Structur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-States:  each portion allowed to establish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murabi:  created Hammurabi’s Code (first written laws)  “Eye for an Ey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 and nobles at the top of social pyram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 and workers at the bott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Hammurabi_Code"/>
          <p:cNvPicPr/>
          <p:nvPr/>
        </p:nvPicPr>
        <p:blipFill>
          <a:blip r:embed="rId1"/>
          <a:stretch/>
        </p:blipFill>
        <p:spPr>
          <a:xfrm>
            <a:off x="1447920" y="4724280"/>
            <a:ext cx="1641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riting System and Relig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nei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tic (many god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ggurats (temple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cuneiform"/>
          <p:cNvPicPr/>
          <p:nvPr/>
        </p:nvPicPr>
        <p:blipFill>
          <a:blip r:embed="rId1"/>
          <a:stretch/>
        </p:blipFill>
        <p:spPr>
          <a:xfrm>
            <a:off x="1066680" y="2895480"/>
            <a:ext cx="2438640" cy="241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ziggurat1"/>
          <p:cNvPicPr/>
          <p:nvPr/>
        </p:nvPicPr>
        <p:blipFill>
          <a:blip r:embed="rId2"/>
          <a:stretch/>
        </p:blipFill>
        <p:spPr>
          <a:xfrm>
            <a:off x="4876920" y="3505320"/>
            <a:ext cx="31716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gypt –Geography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along the Nile River in Egy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able flooding helped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to the ocean called the DEL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nile-river"/>
          <p:cNvPicPr/>
          <p:nvPr/>
        </p:nvPicPr>
        <p:blipFill>
          <a:blip r:embed="rId1"/>
          <a:stretch/>
        </p:blipFill>
        <p:spPr>
          <a:xfrm>
            <a:off x="685800" y="3352680"/>
            <a:ext cx="3333600" cy="322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161624main_nile_river"/>
          <p:cNvPicPr/>
          <p:nvPr/>
        </p:nvPicPr>
        <p:blipFill>
          <a:blip r:embed="rId2"/>
          <a:stretch/>
        </p:blipFill>
        <p:spPr>
          <a:xfrm>
            <a:off x="4800600" y="3276720"/>
            <a:ext cx="31212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Government and Writing System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cracy (monarchy based on relig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aohs (k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oglyphics (picture writ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pharaoh_3"/>
          <p:cNvPicPr/>
          <p:nvPr/>
        </p:nvPicPr>
        <p:blipFill>
          <a:blip r:embed="rId1"/>
          <a:stretch/>
        </p:blipFill>
        <p:spPr>
          <a:xfrm>
            <a:off x="1143000" y="3048120"/>
            <a:ext cx="2751120" cy="3809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ieroglyphics"/>
          <p:cNvPicPr/>
          <p:nvPr/>
        </p:nvPicPr>
        <p:blipFill>
          <a:blip r:embed="rId2"/>
          <a:stretch/>
        </p:blipFill>
        <p:spPr>
          <a:xfrm>
            <a:off x="5410080" y="2700360"/>
            <a:ext cx="2638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ligion and Social Structur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hei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Pyramids for the d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mmif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lif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188181_f260"/>
          <p:cNvPicPr/>
          <p:nvPr/>
        </p:nvPicPr>
        <p:blipFill>
          <a:blip r:embed="rId1"/>
          <a:stretch/>
        </p:blipFill>
        <p:spPr>
          <a:xfrm>
            <a:off x="304920" y="4038480"/>
            <a:ext cx="247644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soci"/>
          <p:cNvPicPr/>
          <p:nvPr/>
        </p:nvPicPr>
        <p:blipFill>
          <a:blip r:embed="rId2"/>
          <a:stretch/>
        </p:blipFill>
        <p:spPr>
          <a:xfrm>
            <a:off x="4572000" y="1523880"/>
            <a:ext cx="426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31:46Z</dcterms:created>
  <dc:creator>NYCDOE</dc:creator>
  <dc:description/>
  <dc:language>en-US</dc:language>
  <cp:lastModifiedBy>Ashley Casella</cp:lastModifiedBy>
  <dcterms:modified xsi:type="dcterms:W3CDTF">2012-05-07T02:50:43Z</dcterms:modified>
  <cp:revision>3</cp:revision>
  <dc:subject/>
  <dc:title>FQ:  What are the qualities of River Valley Civilizations? L84(RR4) </dc:title>
</cp:coreProperties>
</file>